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7B0-C436-4710-B792-69C23BB1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6C3-9291-46BF-A0D6-51721C07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A24-D68C-4265-BD20-B64852F0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BDD-B5CC-4427-8D1A-1A58F773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94E33-FD49-4DB7-89BB-55EDE6AF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E7F45-26AE-4A2A-AC8A-1516D318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0857E-32E9-40A8-90B9-9B9281D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0A3FF-94F4-4D1B-BDA3-BC36CCB4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5BFF7-A2BD-42C1-A6A8-507DC37F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51C78-4DA7-4F21-B0EC-253D1472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A136C-7057-4C5E-8DA2-2B352233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0EC-2DAB-4549-8DAE-C947DE89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19773-C474-49FF-B6EC-BF7F2F70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BDDC0-585C-49B5-921F-30CAD3F0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00CF6-3225-43EE-9402-259B944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FDF10-0B30-4CD6-BD4F-6A315E0C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55617-54F3-4D3A-8162-65664258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3C1-29CC-4AC6-8019-9A831BBB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2E8-1126-4D13-A33A-144E0E6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170-524F-449C-B7A4-6389C55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2C5-4D7D-4D17-BD8F-9A0C5506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15C-5EA5-48B5-BA6D-12DF466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74B-C671-4F76-9DCC-56DE633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FD9-3D02-4BE1-8A78-9F1C897F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897A-90AB-4718-8DAD-22E257A685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8AC-F93F-43DA-8199-313B75DF1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web.mit.edu/invent/iow/darby.html" TargetMode="External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943600" y="502920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: 1/7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: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28600"/>
            <a:ext cx="436248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nd surf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5880" y="53352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3520" y="3352680"/>
            <a:ext cx="75960" cy="246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2743200"/>
            <a:ext cx="452916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648320" y="266688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Darby"/>
          <p:cNvPicPr/>
          <p:nvPr/>
        </p:nvPicPr>
        <p:blipFill>
          <a:blip r:embed="rId2"/>
          <a:srcRect l="0" t="0" r="67402" b="0"/>
          <a:stretch/>
        </p:blipFill>
        <p:spPr>
          <a:xfrm>
            <a:off x="0" y="0"/>
            <a:ext cx="3048120" cy="3191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arby"/>
          <p:cNvPicPr/>
          <p:nvPr/>
        </p:nvPicPr>
        <p:blipFill>
          <a:blip r:embed="rId3"/>
          <a:srcRect l="71118" t="0" r="0" b="0"/>
          <a:stretch/>
        </p:blipFill>
        <p:spPr>
          <a:xfrm>
            <a:off x="6781680" y="0"/>
            <a:ext cx="2362320" cy="3200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Darby"/>
          <p:cNvPicPr/>
          <p:nvPr/>
        </p:nvPicPr>
        <p:blipFill>
          <a:blip r:embed="rId4"/>
          <a:stretch/>
        </p:blipFill>
        <p:spPr>
          <a:xfrm>
            <a:off x="3048120" y="990720"/>
            <a:ext cx="3733560" cy="1057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09680" y="4876920"/>
            <a:ext cx="556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wind surfing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          January 11</a:t>
            </a:r>
            <a:r>
              <a:rPr b="0" lang="en-US" sz="1800" spc="-1" strike="noStrike" baseline="30000">
                <a:solidFill>
                  <a:srgbClr val="cccc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20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web.mit.edu/invent/iow/darb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429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4382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just love water sports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: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781680" y="0"/>
            <a:ext cx="0" cy="3200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48120" y="0"/>
            <a:ext cx="0" cy="3200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743200" y="3352680"/>
            <a:ext cx="3505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Invention: </a:t>
            </a:r>
            <a:r>
              <a:rPr b="0" lang="en-US" sz="4400" spc="-1" strike="noStrike">
                <a:solidFill>
                  <a:srgbClr val="ccccff"/>
                </a:solidFill>
                <a:latin typeface="Tahoma"/>
              </a:rPr>
              <a:t>wind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 surf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Windsurfing was invented in 19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Windsurfers were originally called sailboar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Many Europeans loved windsurfing, every 1 in 3 houses owned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Overall it actually took 4 people two invent it. (not that many when you think about it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ahoma"/>
              </a:rPr>
              <a:t>Windsurfing has recently become an event in the Olympi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438280" y="5105520"/>
            <a:ext cx="42483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Inventor: 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Newman</a:t>
            </a: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 Darb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t took Darby 8 years to make a windsurfer (that actually worked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Darby and his wife produced the “sailboards” in the 60’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t wasn’t until men named Drake and Hoyle came along that Darbys invention work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After Darby invented the windsurfer he went to work in a store that sold other water applian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Darby currently lives with his wife in Jacksonvil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2:48Z</dcterms:created>
  <dc:creator>install</dc:creator>
  <dc:description/>
  <dc:language>en-US</dc:language>
  <cp:lastModifiedBy>install</cp:lastModifiedBy>
  <dcterms:modified xsi:type="dcterms:W3CDTF">2011-01-14T17:12:28Z</dcterms:modified>
  <cp:revision>11</cp:revision>
  <dc:subject/>
  <dc:title>Slide 1</dc:title>
</cp:coreProperties>
</file>